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B12D-8086-4174-A6C3-26727BA0CF7B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6785-6EF2-4381-AD0B-85372CA1C5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97C-56F9-479A-A29C-28298951E1B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6F95-2EC3-40BA-90AD-C14C4B741E5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EFD-253C-4907-85C0-3719441BEA3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DDAA-09A4-4077-B621-33D257846E4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E86D-605C-485C-A539-EF5DE541ED6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8E40-DE08-46BC-845B-D942ADE10C5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6B07-F4A8-4B05-8583-27A3059C650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29F-2800-4D11-9B6C-F01FEAE93A7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B2F-1489-4CF9-B701-D4F6687540E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2B8-717F-418A-B251-DE9281A1D4C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7CE-A867-44B9-83E4-16704E7AF3D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D81B-FE47-4FB9-9BEE-FBDF31CC3F2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CFD-4AAD-4F8D-B96F-2E25360F2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28A6-F018-485F-82C8-BA75F2453A7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825A-8CB9-43B9-9F80-4F91D107463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C620-E5B9-41A4-9306-C2E3C7004F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EA9E-D1D8-4976-A9AF-C9A3B54803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F393-8168-4D3E-80A5-211D8B7F0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3C9-7D72-4986-8254-1256F4BB95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7BF1-B761-496B-A72F-CE5B65BF6C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AA5-5C6B-4573-BD98-7882C079D1F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9B8C-4A1F-486D-8AC6-77172D205DF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A123-8580-49E9-9EC9-4DD1001C807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D3F0-F353-49FA-8837-9A4E8F2574D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8760-458C-428D-8C4D-FEC40F2B22F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C06-267A-4E82-AE52-130B518E6F2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4B0-5224-4C92-9A65-25AB295150A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093-4D25-47CF-891F-D08FA489206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388E-E14F-491B-9C3C-4E00E5B8CF6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F52-1E46-40C9-AE46-A714BDB86AE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4600-491A-4D0F-83CC-194FCD5A3F4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89FD-AEA2-4A05-BA12-B466D030746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F220-2A01-47FA-8230-F9F61599511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08ED-40F9-4404-9077-AA0D8E355B9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7214-0A4B-481F-9EE9-5AF80EC3F72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BD00-80CB-4EA9-81AB-3370202CF0E1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C0D-79AF-4EDC-A17A-E41DBCAEE93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825C-4C60-423F-8F95-0DE234DBAF4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9C5-61A4-4440-BB65-E33C330357C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DF0D-BEF3-476A-941E-1DE3AF27F54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2EA-24D4-4269-98E5-A8ED7F01B26C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0C76-DE10-412C-917C-B6B2D25EAAF4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0996-C103-4B84-8F07-4BA79EEB9B2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0F2F-8BBA-4CCF-B2C1-44B30E9EF3B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342-36E4-4093-B48A-078BF2D87D6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E56-898D-4A70-A4E0-3D0D40ED69CE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6B17-8EE5-4AC9-9390-590F922C5C5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796-23F3-4D27-AF0D-4C193EF0DB5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B1D9-8A64-435D-9F26-4C69753543F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4E99-B0CC-43F6-96BF-9EC82989E92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38D4-4827-4730-AA90-7EA23B38EDD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587A-CD85-478F-BDBC-BECA23601F3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F13D-0045-4F63-824A-1E6702A0077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7D9-4DC9-4E4B-ADAB-46D9E272072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795-E8CC-43E2-AB33-828A919255B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63B4-4529-4A30-9246-92FA87CCBDC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C58-3AAA-4EBE-BA8A-0B7A0261F5D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CD95-05BF-470E-9589-86B0E1D09FE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2A0A-D439-499B-AB9B-68A72E8CCBC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9CB0-13DD-4D91-BB13-85B26FDE7B3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FCE7-36CC-4785-9EB0-1E4DAC986D8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9B31-20DB-4664-B28E-6D1BB47C9642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BB28-1823-4650-96C0-CA108997C3D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A54-BF91-454C-8472-5349C3EB15B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818-9268-4E95-88D4-359B86C6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82A-7167-45BF-929D-F5ADAF09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E23-D360-4184-9EF1-CEDA8501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4F1-36CB-4B3A-BD10-5A306D59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39B-B5E7-47BA-90CB-9162DECF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BAF9-FA4B-4460-8901-4341BE1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8AD-55A4-435A-8CC2-FE556B6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F26-A5B4-40E8-BC5D-FA628C9E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284C-C06B-407C-9406-6669C683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3CC-7CB7-4164-B971-05F803BC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5A7F-660F-46A8-8992-C9165B9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9B5-2201-44FF-839C-93E8D846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EC63-170F-441F-B19E-DCBE3FC4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6A41-562C-4490-B817-A4B383E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5E87-E3AA-4A51-811D-AE5465E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002-276F-4669-9C3C-880386A2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C005-BC98-4F07-B349-5867E698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8FD-107A-4945-9AD4-9123F36A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82B-D8E4-41B6-A772-3E4343D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451-9E7B-42C0-AB76-E2925ACF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B20-39B5-4621-BA15-FE0F0CEF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F2C-429E-43CA-9B4B-2F972C1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528-AB84-4C68-B38E-C044487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0DE-6B08-435C-8622-A695194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062-B183-4AF3-9F7F-64EA20A7739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ADF3-5527-433C-8376-A8600053536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ypes of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B3CF-8D9C-4943-8C4E-687E5D1AE162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2880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 two types of 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onic 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re compounds where electrons are transferred from one atom to another to give each atom full outer sh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is forms a (+) ion and a (-) ion. These oppositely charged ions are attracted to each other to form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onic 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g    Na = 2,8,1                   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Now Na</a:t>
            </a:r>
            <a:r>
              <a:rPr b="0" lang="en-US" sz="2400" spc="-1" strike="noStrike" baseline="30000">
                <a:solidFill>
                  <a:srgbClr val="00ff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 i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l =  2,8,7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  <a:ea typeface="Arial"/>
              </a:rPr>
              <a:t>Now Cl</a:t>
            </a:r>
            <a:r>
              <a:rPr b="0" lang="en-NZ" sz="2400" spc="-1" strike="noStrike" baseline="30000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  <a:ea typeface="Arial"/>
              </a:rPr>
              <a:t> is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The Na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 and C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 come together to form NaCl   (now we don’t write the charg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2" name="Straight Arrow Connector 9"/>
          <p:cNvCxnSpPr/>
          <p:nvPr/>
        </p:nvCxnSpPr>
        <p:spPr>
          <a:xfrm flipH="1">
            <a:off x="2142360" y="4571640"/>
            <a:ext cx="2520" cy="786600"/>
          </a:xfrm>
          <a:prstGeom prst="straightConnector1">
            <a:avLst/>
          </a:prstGeom>
          <a:ln w="41400">
            <a:solidFill>
              <a:srgbClr val="66ffff"/>
            </a:solidFill>
            <a:miter/>
            <a:tailEnd len="med" type="arrow" w="med"/>
          </a:ln>
        </p:spPr>
      </p:cxnSp>
      <p:sp>
        <p:nvSpPr>
          <p:cNvPr id="173" name="TextBox 10"/>
          <p:cNvSpPr/>
          <p:nvPr/>
        </p:nvSpPr>
        <p:spPr>
          <a:xfrm>
            <a:off x="2357280" y="4714920"/>
            <a:ext cx="26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66ffff"/>
                </a:solidFill>
                <a:latin typeface="Arial"/>
              </a:rPr>
              <a:t>The Na electron is                   transferred to  the Cl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900000" y="2349360"/>
            <a:ext cx="714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alent bonds involve atom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 electrons to form molec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lecu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ompounds made of two or more different a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 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,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lecul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also be elements where 2 identical atoms are covalently bonded together eg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21420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ypes of Compou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959040" y="1428840"/>
            <a:ext cx="56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ovalently bonded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0" y="98100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member covalent bonds involve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aring of elec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0" y="2500200"/>
            <a:ext cx="8642520" cy="35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how both carbon and hydrogen achieve full valence (or outer) shells in C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toms form covalent bonds they form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molecu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7"/>
          <p:cNvGraphicFramePr/>
          <p:nvPr/>
        </p:nvGraphicFramePr>
        <p:xfrm>
          <a:off x="1692360" y="4724280"/>
          <a:ext cx="101268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24280"/>
                    <a:ext cx="101268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9"/>
          <p:cNvGraphicFramePr/>
          <p:nvPr/>
        </p:nvGraphicFramePr>
        <p:xfrm>
          <a:off x="5796000" y="4797360"/>
          <a:ext cx="87948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4797360"/>
                    <a:ext cx="8794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16"/>
          <p:cNvSpPr/>
          <p:nvPr/>
        </p:nvSpPr>
        <p:spPr>
          <a:xfrm>
            <a:off x="250920" y="234936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rst draw both atoms with their valence electr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395280" y="4762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How to draw the bonding structure of a covalent molec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285840" y="928800"/>
            <a:ext cx="885816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. In pairs use the model atoms to make a methane (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 atoms are black    H atoms are wh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long grey bonds to joi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2. Then make an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 = white        O =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. Then make a 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 = yellow              O =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4. Then make an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255600" y="115920"/>
            <a:ext cx="5327640" cy="6951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6429240" y="3000240"/>
            <a:ext cx="178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Show me when you have finished each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285840" y="928800"/>
            <a:ext cx="8858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n make a carbon dioxide  (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n make a glucose (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molecule (hint make a ring of 6 carb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TextBox 2" descr=""/>
          <p:cNvPicPr/>
          <p:nvPr/>
        </p:nvPicPr>
        <p:blipFill>
          <a:blip r:embed="rId1"/>
          <a:stretch/>
        </p:blipFill>
        <p:spPr>
          <a:xfrm>
            <a:off x="255600" y="115920"/>
            <a:ext cx="5327640" cy="6951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6429240" y="3000240"/>
            <a:ext cx="178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Show me when you have finished each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611280" y="285840"/>
            <a:ext cx="770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valent bonding in methane (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11280" y="10778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carbon atomic number we fi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900000" y="1725480"/>
            <a:ext cx="1511280" cy="1871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332000" y="22287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476360" y="19414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332000" y="294948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 flipH="1">
            <a:off x="1836720" y="2157480"/>
            <a:ext cx="129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132000" y="2013120"/>
            <a:ext cx="601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 has an electron arrangement of  2,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means carbon has 4 electrons in its val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or outer) sh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1" descr=""/>
          <p:cNvPicPr/>
          <p:nvPr/>
        </p:nvPicPr>
        <p:blipFill>
          <a:blip r:embed="rId1"/>
          <a:stretch/>
        </p:blipFill>
        <p:spPr>
          <a:xfrm>
            <a:off x="1357200" y="5572080"/>
            <a:ext cx="1013040" cy="9781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2"/>
          <p:cNvSpPr/>
          <p:nvPr/>
        </p:nvSpPr>
        <p:spPr>
          <a:xfrm>
            <a:off x="857160" y="4572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draw the  4 valence electrons of carbon like th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2771640" y="5300640"/>
            <a:ext cx="590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electrons does carbon need in its valence (or outer) sh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ns: 8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684360" y="1701720"/>
            <a:ext cx="1511280" cy="1871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116000" y="220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260360" y="191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189080" y="29275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 flipH="1">
            <a:off x="1620360" y="213372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916360" y="1989000"/>
            <a:ext cx="568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rogen has an electron arrangement of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means hydrogen has 1 electron in its valence (or outer) she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68360" y="692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hydrogen atomic number we fi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2" descr=""/>
          <p:cNvPicPr/>
          <p:nvPr/>
        </p:nvPicPr>
        <p:blipFill>
          <a:blip r:embed="rId1"/>
          <a:stretch/>
        </p:blipFill>
        <p:spPr>
          <a:xfrm>
            <a:off x="1214280" y="5500800"/>
            <a:ext cx="879480" cy="7905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900000" y="4149720"/>
            <a:ext cx="78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an draw the valence electron of hydrogen like th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2500200" y="49197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electrons does hydrogen need in its valence (or outer) sh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ns: 2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1787400" cy="16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Object 6"/>
          <p:cNvGraphicFramePr/>
          <p:nvPr/>
        </p:nvGraphicFramePr>
        <p:xfrm>
          <a:off x="1044720" y="2133720"/>
          <a:ext cx="1787400" cy="16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133720"/>
                    <a:ext cx="178740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Oval 7"/>
          <p:cNvSpPr/>
          <p:nvPr/>
        </p:nvSpPr>
        <p:spPr>
          <a:xfrm>
            <a:off x="1189080" y="2637000"/>
            <a:ext cx="649080" cy="647640"/>
          </a:xfrm>
          <a:prstGeom prst="ellipse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539640" y="33336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4 hydrogen atoms around the C atom so that each H shares an electron with a C elect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V="1">
            <a:off x="826920" y="3284280"/>
            <a:ext cx="505080" cy="86364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79280" y="414972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H at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r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e electron with one C electron to give each H a full valence shell of 2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4751280" y="4076640"/>
            <a:ext cx="439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electrons between H and C also means the C atom has a full valence shell of 8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6659640" y="2492280"/>
            <a:ext cx="792000" cy="719280"/>
          </a:xfrm>
          <a:prstGeom prst="ellipse">
            <a:avLst/>
          </a:prstGeom>
          <a:noFill/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395280" y="5589720"/>
            <a:ext cx="8280360" cy="8254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an you see that both H and C atoms have full valence shells by sharing their electr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5364000" y="3141360"/>
            <a:ext cx="1441440" cy="93492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571680" y="214200"/>
            <a:ext cx="85723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Ions an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down the following filling in the g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ons  are atoms that have g_____ or l_____ electrons to form p_______ or n________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 examples of ions are _________ion symbol (     ) , ________ ion symbol (    ) and _________ ion symbol (   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50920" y="5084640"/>
            <a:ext cx="8604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hoose from : smallest, neutrons, covalent, electrons, gained, loss, negative, positive, valence, outer, protons, water, hydrogen gas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C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571680" y="214200"/>
            <a:ext cx="80722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Atoms, Ions an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down the following filling in the g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toms are the s________ particles that make up all th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consist of ________ and _________ in the nucleus with e________ in shells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 examples of atoms are _________ symbol (     ) , ________ symbol (    ) and _________ symbol (   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50920" y="5084640"/>
            <a:ext cx="8604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hoose from : smallest, neutrons, covalent, electrons, gained, loss, negative, positive, valence, outer, protons, water, hydrogen gas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C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0" y="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onic compounds are always between a metal and a non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Na (metal)         Cl (non metal)     make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year 11 you will be given a table of ions – you don’t have to remember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ut you must know how to write balanced formula for ionic compounds using these 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411280" y="3500280"/>
          <a:ext cx="4176720" cy="3200400"/>
        </p:xfrm>
        <a:graphic>
          <a:graphicData uri="http://schemas.openxmlformats.org/drawingml/2006/table">
            <a:tbl>
              <a:tblPr/>
              <a:tblGrid>
                <a:gridCol w="1044720"/>
                <a:gridCol w="1111320"/>
                <a:gridCol w="976320"/>
                <a:gridCol w="10443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 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u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b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571680" y="214200"/>
            <a:ext cx="857232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Atoms, Ions an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down the following filling in the ga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lecules are where two or more atoms share electrons in a  c________ bond to give both atoms full v______ or o______ sh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3 examples of molecules are w_______ formula (       ) , c________  d_______ formula (       ) and h______ g___  formula (    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50920" y="5084640"/>
            <a:ext cx="8893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hoose from : smallest, neutrons, covalent, electrons, gained, loss, negative, positive, valence, outer, protons, water, hydrogen gas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C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,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35F-0079-42E6-9599-76094C8F66F3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ccff"/>
                </a:solidFill>
                <a:latin typeface="Arial"/>
              </a:rPr>
              <a:t>What is an 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An anion is an atom that has gained electron(s) to form a (-) 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e.g Cl</a:t>
            </a:r>
            <a:r>
              <a:rPr b="0" lang="en-NZ" sz="3200" spc="-1" strike="noStrike" baseline="30000">
                <a:solidFill>
                  <a:srgbClr val="ff99ff"/>
                </a:solidFill>
                <a:latin typeface="Arial"/>
              </a:rPr>
              <a:t>-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(Chloride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S</a:t>
            </a:r>
            <a:r>
              <a:rPr b="0" lang="en-NZ" sz="3200" spc="-1" strike="noStrike" baseline="30000">
                <a:solidFill>
                  <a:srgbClr val="ff99ff"/>
                </a:solidFill>
                <a:latin typeface="Arial"/>
              </a:rPr>
              <a:t>2- </a:t>
            </a:r>
            <a:r>
              <a:rPr b="0" lang="en-NZ" sz="3200" spc="-1" strike="noStrike">
                <a:solidFill>
                  <a:srgbClr val="ff99ff"/>
                </a:solidFill>
                <a:latin typeface="Arial"/>
              </a:rPr>
              <a:t>(Sulfid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or a cation is an atom that has lost electron(s) to form a (+)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.g  Na</a:t>
            </a:r>
            <a:r>
              <a:rPr b="0" lang="en-NZ" sz="3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Sodiu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iron (ll) ion) (aka Ferric 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Arial"/>
              </a:rPr>
              <a:t>3+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iron(lll) ion ) (Ferro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285840" y="71280"/>
            <a:ext cx="864396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Compounds can be two types – Copy this  neatly into your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. Compounds can be </a:t>
            </a: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onic compounds form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when atoms lose and gain electrons to form charged (+) and (-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oppositely charged ions are attracted together to form an ionic bo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onic bonds always occur between a metal and non me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Eg  Na (+)  and  Cl (-)  come together to form  Na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285840" y="71280"/>
            <a:ext cx="86439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Compounds can be two types – Copy this  neatly into your bo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2. Compounds can be </a:t>
            </a: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Coval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285840" y="2428920"/>
            <a:ext cx="84294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atoms share electrons so that each atom has a full outer sh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sharing of electrons is called a covalent bon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valently bonded atoms form molec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olecules are always between non metal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Examples of molecules are CH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 methane, H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O water, CO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 carbon di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5CB-68F1-45F1-9328-14550FB6E5F4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26028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Atoms and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 substance made of one type of atom is called an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6d1ec"/>
                </a:solidFill>
                <a:latin typeface="Arial"/>
              </a:rPr>
              <a:t>e.g. a piece of Aluminium (symbol Al) consists of only aluminium atoms bonded together and is called an </a:t>
            </a:r>
            <a:r>
              <a:rPr b="1" lang="en-NZ" sz="3200" spc="-1" strike="noStrike" u="sng">
                <a:solidFill>
                  <a:srgbClr val="66ff33"/>
                </a:solidFill>
                <a:uFillTx/>
                <a:latin typeface="Arial"/>
              </a:rPr>
              <a:t>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834-A271-4977-9789-4A1A33A194E5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Molec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ome elements are unstable as single atoms and only exist as 2 atoms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ovalently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 bonded together to form a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Arial"/>
              </a:rPr>
              <a:t>molecu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These are usually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.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, N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,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773C-7B31-4872-9216-5FECD9D43781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Compounds and Molec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Some compounds are molecules that contain 2 or more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ifferent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atoms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covalently bonded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 together. Some common molecular compounds are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arbon dioxid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(metha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12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(gluc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DF17-F469-45D1-ADA8-BE7A47B0D513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alancing Reac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1214280" y="1428840"/>
            <a:ext cx="6912000" cy="3551040"/>
            <a:chOff x="1214280" y="1428840"/>
            <a:chExt cx="6912000" cy="3551040"/>
          </a:xfrm>
        </p:grpSpPr>
        <p:sp>
          <p:nvSpPr>
            <p:cNvPr id="297" name="Text Box 5"/>
            <p:cNvSpPr/>
            <p:nvPr/>
          </p:nvSpPr>
          <p:spPr>
            <a:xfrm>
              <a:off x="1214280" y="1428840"/>
              <a:ext cx="2989440" cy="35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Mg    +    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Zn    +    HC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Fe    +    Cl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OH    +    HC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C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4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    +    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a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NaOH    +    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S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H    +    O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5246640" y="1428840"/>
              <a:ext cx="2879640" cy="35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Mg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ZnCl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FeCl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Cl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C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a(OH)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Na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SO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4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cc66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cc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 +    H</a:t>
              </a:r>
              <a:r>
                <a:rPr b="0" lang="en-GB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7"/>
            <p:cNvSpPr/>
            <p:nvPr/>
          </p:nvSpPr>
          <p:spPr>
            <a:xfrm>
              <a:off x="4454640" y="164448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Line 8"/>
          <p:cNvSpPr/>
          <p:nvPr/>
        </p:nvSpPr>
        <p:spPr>
          <a:xfrm>
            <a:off x="4429080" y="242892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4429080" y="2857680"/>
            <a:ext cx="4320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0"/>
          <p:cNvSpPr/>
          <p:nvPr/>
        </p:nvSpPr>
        <p:spPr>
          <a:xfrm>
            <a:off x="4429080" y="328608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4500720" y="3714840"/>
            <a:ext cx="43164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4429080" y="4071960"/>
            <a:ext cx="432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4429080" y="4500720"/>
            <a:ext cx="4320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4454640" y="5460840"/>
            <a:ext cx="43164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1428840" y="1428840"/>
            <a:ext cx="29527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        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5003640" y="1413000"/>
            <a:ext cx="2448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 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4429080" y="2000160"/>
            <a:ext cx="432000" cy="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1B9-362E-4694-A177-7592828675BE}" type="datetime">
              <a:rPr b="0" lang="en-GB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imple formulae to lea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28600" y="1600200"/>
            <a:ext cx="1143000" cy="31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NH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SO</a:t>
            </a:r>
            <a:r>
              <a:rPr b="0" lang="en-GB" sz="1800" spc="-1" strike="noStrike" baseline="-25000">
                <a:solidFill>
                  <a:srgbClr val="99ff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676520" y="1600200"/>
            <a:ext cx="2819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Amm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it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ffcc"/>
                </a:solidFill>
                <a:latin typeface="Arial"/>
              </a:rPr>
              <a:t>Sulphur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M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odium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cium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Magnesium 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drochlor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ulphur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Sodium hydr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cium hydr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Calcium carbo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uminium 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Arial"/>
              </a:rPr>
              <a:t>Iron 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857160" y="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Aci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642960" y="64296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s release hydrogen ions (H+) in water to give acidic solu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Common Lab Acid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ulfuric acid (formula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itric acid  (formula HN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ydrochloric acid (formula HCl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7" descr="1113_acids"/>
          <p:cNvPicPr/>
          <p:nvPr/>
        </p:nvPicPr>
        <p:blipFill>
          <a:blip r:embed="rId1"/>
          <a:stretch/>
        </p:blipFill>
        <p:spPr>
          <a:xfrm>
            <a:off x="7286760" y="2571840"/>
            <a:ext cx="1736640" cy="18000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428760" y="42861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are 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strong acid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because they form a lot of H+ ions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714240" y="542916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HCl (l)                 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(aq) +   C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2857680" y="5643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14240" y="607212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(l)                 2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(aq) +   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3357720" y="6357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-27000"/>
          <a:ext cx="9144000" cy="6819840"/>
        </p:xfrm>
        <a:graphic>
          <a:graphicData uri="http://schemas.openxmlformats.org/drawingml/2006/table">
            <a:tbl>
              <a:tblPr/>
              <a:tblGrid>
                <a:gridCol w="1763640"/>
                <a:gridCol w="2016360"/>
                <a:gridCol w="1800000"/>
                <a:gridCol w="1752840"/>
                <a:gridCol w="1811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Sod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agnes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alumin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x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H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hydrox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62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ith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lcium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Fe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ferri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SO</a:t>
                      </a:r>
                      <a:r>
                        <a:rPr b="1" lang="en-NZ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4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2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sulfat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l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hlor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tass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ferrou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   </a:t>
                      </a: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</a:t>
                      </a:r>
                      <a:r>
                        <a:rPr b="1" lang="en-NZ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3 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2-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rbonat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F</a:t>
                      </a: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 baseline="30000">
                          <a:solidFill>
                            <a:srgbClr val="00ff00"/>
                          </a:solidFill>
                          <a:latin typeface="Arial"/>
                        </a:rPr>
                        <a:t>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fluorid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u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opp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r>
                        <a:rPr b="0" lang="en-NZ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itrat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zinc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b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ead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900000" y="260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Acid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42920" y="1052640"/>
            <a:ext cx="8461440" cy="44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Other  Acids found around the home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ethanoic aci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formula C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OH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the acid found in vineg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Tartaric acid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formula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used in coo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Citric acid  (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formula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800" spc="-1" strike="noStrike" baseline="-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is the acid found in oranges and other fru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scorbic acid is another acid known as vitamin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1113_acids"/>
          <p:cNvPicPr/>
          <p:nvPr/>
        </p:nvPicPr>
        <p:blipFill>
          <a:blip r:embed="rId1"/>
          <a:stretch/>
        </p:blipFill>
        <p:spPr>
          <a:xfrm>
            <a:off x="7764480" y="0"/>
            <a:ext cx="13795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468360" y="573408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acids are called 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weak acid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because they form a small number of H+ ions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ases are substances that release hydroxide ions (OH-)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NaOH (s)                 Na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(aq) +  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     KOH (s)                 K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(aq) +  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aq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Strong bases give off lots of OH- ions and weak base give off less OH-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ommon strong base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dium hydroxide (NaO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Potassium hydroxide (KO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mmonium hydroxide (N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H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ny cleaning agents are bases eg oven cleaners, window clea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4"/>
          <p:cNvSpPr/>
          <p:nvPr/>
        </p:nvSpPr>
        <p:spPr>
          <a:xfrm>
            <a:off x="2857680" y="2214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786040" y="2928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0" y="0"/>
            <a:ext cx="86425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The pH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amount of H+ ions given off by an acid are measured by the pH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 on the pH scale means there are a lot of H+ ions in the water and the solution is said to be acid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4 on the pH scale means there are very few H+ ions in the water but a lot of OH- ions creating a basic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558972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c9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sp>
        <p:nvSpPr>
          <p:cNvPr id="334" name="Text Box 36"/>
          <p:cNvSpPr/>
          <p:nvPr/>
        </p:nvSpPr>
        <p:spPr>
          <a:xfrm>
            <a:off x="0" y="549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raw the pH scale below your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0" y="1728720"/>
          <a:ext cx="8675640" cy="64152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Text Box 87"/>
          <p:cNvSpPr/>
          <p:nvPr/>
        </p:nvSpPr>
        <p:spPr>
          <a:xfrm>
            <a:off x="539640" y="3789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88"/>
          <p:cNvSpPr/>
          <p:nvPr/>
        </p:nvSpPr>
        <p:spPr>
          <a:xfrm>
            <a:off x="0" y="27367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89"/>
          <p:cNvSpPr/>
          <p:nvPr/>
        </p:nvSpPr>
        <p:spPr>
          <a:xfrm>
            <a:off x="3564000" y="2637000"/>
            <a:ext cx="2244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g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90"/>
          <p:cNvSpPr/>
          <p:nvPr/>
        </p:nvSpPr>
        <p:spPr>
          <a:xfrm>
            <a:off x="8028000" y="2736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91"/>
          <p:cNvSpPr/>
          <p:nvPr/>
        </p:nvSpPr>
        <p:spPr>
          <a:xfrm flipV="1">
            <a:off x="324000" y="223164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Line 92"/>
          <p:cNvSpPr/>
          <p:nvPr/>
        </p:nvSpPr>
        <p:spPr>
          <a:xfrm flipV="1">
            <a:off x="4067280" y="2231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93"/>
          <p:cNvSpPr/>
          <p:nvPr/>
        </p:nvSpPr>
        <p:spPr>
          <a:xfrm flipV="1">
            <a:off x="8388360" y="216036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94"/>
          <p:cNvSpPr/>
          <p:nvPr/>
        </p:nvSpPr>
        <p:spPr>
          <a:xfrm>
            <a:off x="0" y="386064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colours below are the colours for the different pH numbers with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universal indicato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this indicates how acidic or basic a solu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ask – gently shade your pH scale these col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79280" y="328464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9200"/>
                <a:gridCol w="620640"/>
                <a:gridCol w="619200"/>
                <a:gridCol w="618840"/>
                <a:gridCol w="621000"/>
                <a:gridCol w="61884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c9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0" y="333360"/>
          <a:ext cx="8675640" cy="64152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68"/>
          <p:cNvSpPr/>
          <p:nvPr/>
        </p:nvSpPr>
        <p:spPr>
          <a:xfrm>
            <a:off x="0" y="134136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9"/>
          <p:cNvSpPr/>
          <p:nvPr/>
        </p:nvSpPr>
        <p:spPr>
          <a:xfrm>
            <a:off x="3564000" y="134136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8028000" y="13413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71"/>
          <p:cNvSpPr/>
          <p:nvPr/>
        </p:nvSpPr>
        <p:spPr>
          <a:xfrm flipV="1">
            <a:off x="324000" y="83628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72"/>
          <p:cNvSpPr/>
          <p:nvPr/>
        </p:nvSpPr>
        <p:spPr>
          <a:xfrm flipV="1">
            <a:off x="4067280" y="83628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73"/>
          <p:cNvSpPr/>
          <p:nvPr/>
        </p:nvSpPr>
        <p:spPr>
          <a:xfrm flipV="1">
            <a:off x="8388360" y="765000"/>
            <a:ext cx="0" cy="648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179280" y="2133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ything less than 7 on the pH scale is called an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75"/>
          <p:cNvSpPr/>
          <p:nvPr/>
        </p:nvSpPr>
        <p:spPr>
          <a:xfrm flipH="1">
            <a:off x="1295280" y="4292640"/>
            <a:ext cx="1152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2448000" y="414828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ak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179280" y="4124160"/>
            <a:ext cx="125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3492360" y="2708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6d1ec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9"/>
          <p:cNvSpPr/>
          <p:nvPr/>
        </p:nvSpPr>
        <p:spPr>
          <a:xfrm>
            <a:off x="4140360" y="314172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4"/>
          <p:cNvSpPr/>
          <p:nvPr/>
        </p:nvSpPr>
        <p:spPr>
          <a:xfrm>
            <a:off x="216000" y="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93672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9200"/>
                <a:gridCol w="620640"/>
                <a:gridCol w="619200"/>
                <a:gridCol w="620640"/>
                <a:gridCol w="619200"/>
                <a:gridCol w="618840"/>
                <a:gridCol w="621000"/>
                <a:gridCol w="618840"/>
                <a:gridCol w="619200"/>
                <a:gridCol w="620640"/>
                <a:gridCol w="6192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67"/>
          <p:cNvSpPr/>
          <p:nvPr/>
        </p:nvSpPr>
        <p:spPr>
          <a:xfrm>
            <a:off x="612720" y="458136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68"/>
          <p:cNvSpPr/>
          <p:nvPr/>
        </p:nvSpPr>
        <p:spPr>
          <a:xfrm>
            <a:off x="0" y="19447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9"/>
          <p:cNvSpPr/>
          <p:nvPr/>
        </p:nvSpPr>
        <p:spPr>
          <a:xfrm>
            <a:off x="3564000" y="194472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70"/>
          <p:cNvSpPr/>
          <p:nvPr/>
        </p:nvSpPr>
        <p:spPr>
          <a:xfrm>
            <a:off x="8028000" y="1944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71"/>
          <p:cNvSpPr/>
          <p:nvPr/>
        </p:nvSpPr>
        <p:spPr>
          <a:xfrm flipV="1">
            <a:off x="324000" y="143964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72"/>
          <p:cNvSpPr/>
          <p:nvPr/>
        </p:nvSpPr>
        <p:spPr>
          <a:xfrm flipV="1">
            <a:off x="4067280" y="143964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73"/>
          <p:cNvSpPr/>
          <p:nvPr/>
        </p:nvSpPr>
        <p:spPr>
          <a:xfrm flipV="1">
            <a:off x="8388360" y="136800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74"/>
          <p:cNvSpPr/>
          <p:nvPr/>
        </p:nvSpPr>
        <p:spPr>
          <a:xfrm>
            <a:off x="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dicators can also tell us how many OH- ions a base will give off and this gives us an indication of how basic a solution 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68360" y="4292640"/>
          <a:ext cx="8675640" cy="641160"/>
        </p:xfrm>
        <a:graphic>
          <a:graphicData uri="http://schemas.openxmlformats.org/drawingml/2006/table">
            <a:tbl>
              <a:tblPr/>
              <a:tblGrid>
                <a:gridCol w="619200"/>
                <a:gridCol w="620640"/>
                <a:gridCol w="619200"/>
                <a:gridCol w="618840"/>
                <a:gridCol w="621000"/>
                <a:gridCol w="618840"/>
                <a:gridCol w="621000"/>
                <a:gridCol w="61884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c9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</a:tbl>
          </a:graphicData>
        </a:graphic>
      </p:graphicFrame>
      <p:sp>
        <p:nvSpPr>
          <p:cNvPr id="369" name="Line 107"/>
          <p:cNvSpPr/>
          <p:nvPr/>
        </p:nvSpPr>
        <p:spPr>
          <a:xfrm>
            <a:off x="6300720" y="5300640"/>
            <a:ext cx="10429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08"/>
          <p:cNvSpPr/>
          <p:nvPr/>
        </p:nvSpPr>
        <p:spPr>
          <a:xfrm>
            <a:off x="4932360" y="5084640"/>
            <a:ext cx="107964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9"/>
          <p:cNvSpPr/>
          <p:nvPr/>
        </p:nvSpPr>
        <p:spPr>
          <a:xfrm>
            <a:off x="7885080" y="5013360"/>
            <a:ext cx="125892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0"/>
          <p:cNvSpPr/>
          <p:nvPr/>
        </p:nvSpPr>
        <p:spPr>
          <a:xfrm>
            <a:off x="3851280" y="3645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86d1ec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111"/>
          <p:cNvSpPr/>
          <p:nvPr/>
        </p:nvSpPr>
        <p:spPr>
          <a:xfrm>
            <a:off x="4429080" y="4149720"/>
            <a:ext cx="0" cy="287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http://www.bbc.co.uk/schools/gcsebitesize/science/images/gcsechem_59.jpg"/>
          <p:cNvPicPr/>
          <p:nvPr/>
        </p:nvPicPr>
        <p:blipFill>
          <a:blip r:embed="rId1"/>
          <a:stretch/>
        </p:blipFill>
        <p:spPr>
          <a:xfrm>
            <a:off x="571680" y="1714680"/>
            <a:ext cx="3400200" cy="2295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4357800" y="157176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ich beaker contains the acid and which one contains the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571680" y="785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eak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lue l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2357280" y="785880"/>
            <a:ext cx="16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Beak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Red l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2350440" y="404820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528480" y="4048200"/>
            <a:ext cx="8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500040" y="4643280"/>
            <a:ext cx="700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hich beaker has more OH- 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hich beaker has more H+ 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1453680" y="4071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(H+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412440" y="40719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(OH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142920" y="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Litmus paper is another indi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6715080" y="3811680"/>
            <a:ext cx="242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Remember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ccff"/>
                </a:solidFill>
                <a:latin typeface="Arial"/>
              </a:rPr>
              <a:t>blue litmus paper tests for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3300"/>
                </a:solidFill>
                <a:latin typeface="Arial"/>
              </a:rPr>
              <a:t>Red litmus tests for  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357120" y="142920"/>
            <a:ext cx="750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Litmus paper can also tell us Whether we Have an Acid or a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Litmus paper can be </a:t>
            </a:r>
            <a:r>
              <a:rPr b="0" lang="en-NZ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0" lang="en-NZ" sz="2800" spc="-1" strike="noStrike">
                <a:solidFill>
                  <a:srgbClr val="99cc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cids turn blue litmus paper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ases turn red litmus paper 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2" descr="http://www.bbc.co.uk/schools/gcsebitesize/science/images/gcsechem_59.jpg"/>
          <p:cNvPicPr/>
          <p:nvPr/>
        </p:nvPicPr>
        <p:blipFill>
          <a:blip r:embed="rId1"/>
          <a:stretch/>
        </p:blipFill>
        <p:spPr>
          <a:xfrm>
            <a:off x="2357280" y="4071960"/>
            <a:ext cx="34005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Neutrali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ydroxide (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ions are the opposite to 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en there are equal amounts of H+ and OH- ions in a solution they will react to form pure water (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) in a neutralisation reaction – the neutralisation reaction is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+    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(water is neutral and has a pH of 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"/>
          <p:cNvSpPr/>
          <p:nvPr/>
        </p:nvSpPr>
        <p:spPr>
          <a:xfrm>
            <a:off x="2286000" y="3571920"/>
            <a:ext cx="64764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85840" y="478620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So bases eg NaOH, KOH can neutralise acid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57120" y="5572080"/>
            <a:ext cx="850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and acids eg HCl,H</a:t>
            </a:r>
            <a:r>
              <a:rPr b="1" lang="en-NZ" sz="2800" spc="-1" strike="noStrike" u="sng" baseline="-25000">
                <a:solidFill>
                  <a:srgbClr val="99ff33"/>
                </a:solidFill>
                <a:uFillTx/>
                <a:latin typeface="Arial"/>
              </a:rPr>
              <a:t>2</a:t>
            </a: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SO</a:t>
            </a:r>
            <a:r>
              <a:rPr b="1" lang="en-NZ" sz="2800" spc="-1" strike="noStrike" u="sng" baseline="-25000">
                <a:solidFill>
                  <a:srgbClr val="99ff33"/>
                </a:solidFill>
                <a:uFillTx/>
                <a:latin typeface="Arial"/>
              </a:rPr>
              <a:t>4</a:t>
            </a:r>
            <a:r>
              <a:rPr b="1" lang="en-NZ" sz="2800" spc="-1" strike="noStrike" u="sng">
                <a:solidFill>
                  <a:srgbClr val="99ff33"/>
                </a:solidFill>
                <a:uFillTx/>
                <a:latin typeface="Arial"/>
              </a:rPr>
              <a:t> can neutralise bas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285840" y="3643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66ff33"/>
                </a:solidFill>
                <a:latin typeface="Arial"/>
              </a:rPr>
              <a:t>From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1571760" y="364320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66ff33"/>
                </a:solidFill>
                <a:latin typeface="Arial"/>
              </a:rPr>
              <a:t>From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95280" y="159480"/>
            <a:ext cx="8136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Gas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ll carbonates eg _______ react with any acid to from C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carbon dioxide)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-101160" y="5084640"/>
            <a:ext cx="92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limewater test bubbled C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through lime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13" descr="limewater"/>
          <p:cNvPicPr/>
          <p:nvPr/>
        </p:nvPicPr>
        <p:blipFill>
          <a:blip r:embed="rId1"/>
          <a:stretch/>
        </p:blipFill>
        <p:spPr>
          <a:xfrm>
            <a:off x="6443640" y="34290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7"/>
          <p:cNvSpPr/>
          <p:nvPr/>
        </p:nvSpPr>
        <p:spPr>
          <a:xfrm>
            <a:off x="629280" y="4076640"/>
            <a:ext cx="454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How do you test for CO</a:t>
            </a:r>
            <a:r>
              <a:rPr b="1" lang="en-GB" sz="2800" spc="-1" strike="noStrike" baseline="-25000">
                <a:solidFill>
                  <a:srgbClr val="00ff00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3643200" y="1000080"/>
            <a:ext cx="15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CaCO</a:t>
            </a:r>
            <a:r>
              <a:rPr b="1" lang="en-GB" sz="2800" spc="-1" strike="noStrike" baseline="-25000">
                <a:solidFill>
                  <a:srgbClr val="99ccff"/>
                </a:solidFill>
                <a:latin typeface="Comic Sans MS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68436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Give a balanced equation for an acid/carbonat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3995640" y="31417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2924280"/>
            <a:ext cx="806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Ca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  +   </a:t>
            </a:r>
            <a:r>
              <a:rPr b="0" lang="en-NZ" sz="2400" spc="-1" strike="noStrike">
                <a:solidFill>
                  <a:srgbClr val="99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HCl                CaCl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+   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3780000" y="60228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324000" y="580536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+ Ca(OH)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              Ca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+   2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O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ask : write the chemical formula for sodium oxide in your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02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two ions from the chart with their charges  ie   Na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and    O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852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in other words are there the same number of (+) as (-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 = +1  and    O = -2   no they don’t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5157720"/>
            <a:ext cx="19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4788000" y="458136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ow the seesaw </a:t>
            </a:r>
            <a:r>
              <a:rPr b="1" i="1" lang="en-NZ" sz="2000" spc="-1" strike="noStrike">
                <a:solidFill>
                  <a:srgbClr val="ffffff"/>
                </a:solidFill>
                <a:latin typeface="Arial"/>
              </a:rPr>
              <a:t>doesn’t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7"/>
          <p:cNvGraphicFramePr/>
          <p:nvPr/>
        </p:nvGraphicFramePr>
        <p:xfrm>
          <a:off x="2197080" y="4387680"/>
          <a:ext cx="224964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4387680"/>
                    <a:ext cx="22496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8"/>
          <p:cNvSpPr/>
          <p:nvPr/>
        </p:nvSpPr>
        <p:spPr>
          <a:xfrm>
            <a:off x="0" y="573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You must add an extra Na+ ion to make the (+) and (-)  balance which ion do you think you will need to add to the seesa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84960" y="765000"/>
            <a:ext cx="601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How do you test for O</a:t>
            </a:r>
            <a:r>
              <a:rPr b="1" lang="en-GB" sz="2800" spc="-1" strike="noStrike" baseline="-25000">
                <a:solidFill>
                  <a:srgbClr val="00ff00"/>
                </a:solidFill>
                <a:latin typeface="Comic Sans MS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? (Oxy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480600" y="206064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glowing splint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15" descr="relightgood"/>
          <p:cNvPicPr/>
          <p:nvPr/>
        </p:nvPicPr>
        <p:blipFill>
          <a:blip r:embed="rId1"/>
          <a:stretch/>
        </p:blipFill>
        <p:spPr>
          <a:xfrm>
            <a:off x="6527880" y="1484280"/>
            <a:ext cx="2616120" cy="1962360"/>
          </a:xfrm>
          <a:prstGeom prst="rect">
            <a:avLst/>
          </a:prstGeom>
          <a:ln w="0">
            <a:noFill/>
          </a:ln>
        </p:spPr>
      </p:pic>
      <p:sp>
        <p:nvSpPr>
          <p:cNvPr id="407" name="Line 7"/>
          <p:cNvSpPr/>
          <p:nvPr/>
        </p:nvSpPr>
        <p:spPr>
          <a:xfrm>
            <a:off x="3419640" y="4005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11280" y="378936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KMn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4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             Mn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343080" y="476280"/>
            <a:ext cx="753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Finally how do you test for H</a:t>
            </a:r>
            <a:r>
              <a:rPr b="1" lang="en-GB" sz="2800" spc="-1" strike="noStrike" baseline="-25000">
                <a:solidFill>
                  <a:srgbClr val="00ff00"/>
                </a:solidFill>
                <a:latin typeface="Comic Sans MS"/>
                <a:ea typeface="Times New Roman"/>
              </a:rPr>
              <a:t>2 </a:t>
            </a:r>
            <a:r>
              <a:rPr b="1" lang="en-GB" sz="28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(hydrogen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704880" y="14130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pop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3635280" y="335772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the magnesium and hydrochloric acid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611280" y="314172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Mg +  2HCl                Mg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95280" y="4365720"/>
            <a:ext cx="76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 reaction for the combustion of the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403280" y="620640"/>
          <a:ext cx="6096240" cy="5668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ysical Property of me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le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 the metal can be b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ct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 the metal can be made into w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iv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ducts both heat and electric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stro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are solid except 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2"/>
          <p:cNvSpPr/>
          <p:nvPr/>
        </p:nvSpPr>
        <p:spPr>
          <a:xfrm>
            <a:off x="684360" y="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1" lang="en-NZ" sz="3600" spc="-1" strike="noStrike">
                <a:solidFill>
                  <a:srgbClr val="ffffff"/>
                </a:solidFill>
                <a:latin typeface="Calibri"/>
              </a:rPr>
              <a:t>Physical Properties of met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0920" y="4437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al consists of a regular arrangement of positive ions held together by a 'sea' of electr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Object 4"/>
          <p:cNvGraphicFramePr/>
          <p:nvPr/>
        </p:nvGraphicFramePr>
        <p:xfrm>
          <a:off x="684360" y="1268280"/>
          <a:ext cx="7991280" cy="29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268280"/>
                    <a:ext cx="799128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Star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357120" y="170964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consist of p______ metal ions surrounded by n______ electr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ttraction of the e_______ for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_____ ions acts like a glue that holds metals atoms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2"/>
          <p:cNvSpPr/>
          <p:nvPr/>
        </p:nvSpPr>
        <p:spPr>
          <a:xfrm>
            <a:off x="395280" y="189000"/>
            <a:ext cx="807732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 Black"/>
              </a:rPr>
              <a:t>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 the periodic table in your book colour  the metals red and nonmetals b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eave the metalliods (these are elements found on the border line between the metals and non metals) wh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0880" y="294624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Give names to the following metal symb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l  -                               Zn -                          Ag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Ni -     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                          Ca -                          Cu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Fe -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                Li -                           Mg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Pb -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 Unicode MS"/>
              </a:rPr>
              <a:t>                Na -                          Au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1258920" y="616572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04292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116000" y="4076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Nick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1116000" y="458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1116000" y="515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4140360" y="40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1619280" y="558792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211640" y="35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Zi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4140360" y="4581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4284720" y="515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7020000" y="350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Sil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70930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6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7020000" y="515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 Unicode MS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41799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consists of positive ions held together by a 'sea' of electr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account for the lustrous appearance of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 electrons can move freely they conduct electricity, however the positive ions can only vibrate in the one spot. This means metals also conduct heat a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4140360" y="1916280"/>
          <a:ext cx="4787640" cy="178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40360" y="1916280"/>
                    <a:ext cx="47876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Text Box 5"/>
          <p:cNvSpPr/>
          <p:nvPr/>
        </p:nvSpPr>
        <p:spPr>
          <a:xfrm>
            <a:off x="4284720" y="3933720"/>
            <a:ext cx="4537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his type of metal bonding between positive ions and electrons in metals is strong giving metals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Object 2"/>
          <p:cNvGraphicFramePr/>
          <p:nvPr/>
        </p:nvGraphicFramePr>
        <p:xfrm>
          <a:off x="539640" y="1628640"/>
          <a:ext cx="603576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603576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3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metals conduct h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611280" y="5661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emo by heating spatula with paper clips attached by vaso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732720" y="1916280"/>
            <a:ext cx="201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particle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this passage refers to the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metal ions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1692360" y="1773360"/>
          <a:ext cx="54673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54673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3"/>
          <p:cNvSpPr/>
          <p:nvPr/>
        </p:nvSpPr>
        <p:spPr>
          <a:xfrm>
            <a:off x="254160" y="4107960"/>
            <a:ext cx="89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metallic bonds do not act in a particular direction,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s of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sitive ions can slide over one another eas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llows the metal to be bent or shaped. This structure all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to be bent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lle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r made into wires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900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most metals can be bent or shap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Metal structure Star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"/>
          <p:cNvSpPr/>
          <p:nvPr/>
        </p:nvSpPr>
        <p:spPr>
          <a:xfrm>
            <a:off x="357120" y="170964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etals consist of p______ metal ions surrounded by n______ electr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attraction of the e_______ for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_____ ions acts like a glue that holds metals atoms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50920" y="260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Yes you are correct you need to add one Na</a:t>
            </a:r>
            <a:r>
              <a:rPr b="1" lang="en-NZ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o the left hand side of the sees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835280" y="1484280"/>
          <a:ext cx="4032000" cy="19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84280"/>
                    <a:ext cx="4032000" cy="19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4"/>
          <p:cNvSpPr/>
          <p:nvPr/>
        </p:nvSpPr>
        <p:spPr>
          <a:xfrm>
            <a:off x="468360" y="393372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Now you write the formula for sodium oxide as Na</a:t>
            </a:r>
            <a:r>
              <a:rPr b="1" lang="en-NZ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50920" y="4653000"/>
            <a:ext cx="8353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his tells us in each particle of sodium oxide (Na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O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here are two Na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ions and one O</a:t>
            </a:r>
            <a:r>
              <a:rPr b="1" lang="en-NZ" sz="2400" spc="-1" strike="noStrike" baseline="30000">
                <a:solidFill>
                  <a:srgbClr val="ffff00"/>
                </a:solidFill>
                <a:latin typeface="Arial"/>
              </a:rPr>
              <a:t>2-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sotope is an atom with a different number of neu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ove are all naturally occurring isotopes of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900000" y="3225960"/>
                <a:ext cx="75614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Hydroge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proton, 1 electron</m:t>
                        </m:r>
                        <m:r>
                          <m:t xml:space="preserve">)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rPr>
                            <m:lit/>
                            <m:nor/>
                          </m:rPr>
                          <m:t xml:space="preserve">H  Deuter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proton, 1 neutron, 1 elctron</m:t>
                        </m:r>
                        <m:r>
                          <m:t xml:space="preserve">)</m:t>
                        </m:r>
                      </m:e>
                      <m:e>
                        <m:sPr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 Tritium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proton, 2 neutrons, 1 electro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33"/>
                </a:solidFill>
                <a:latin typeface="Arial"/>
              </a:rPr>
              <a:t>Metals and oxygen What is Ru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99960" y="1225440"/>
            <a:ext cx="79930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ust only occurs with iron (Fe) me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usting is where iron reacts with oxygen in the air to form  rust (also known as iron oxide Fe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To from rust iron, water and oxygen must be pres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ust is always noticed by a reddish brown layer occurring on the surface of the i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5" descr="j0289818"/>
          <p:cNvPicPr/>
          <p:nvPr/>
        </p:nvPicPr>
        <p:blipFill>
          <a:blip r:embed="rId1"/>
          <a:stretch/>
        </p:blipFill>
        <p:spPr>
          <a:xfrm>
            <a:off x="2357280" y="5021280"/>
            <a:ext cx="3807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69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Summary – Metal Re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4"/>
          <p:cNvGrpSpPr/>
          <p:nvPr/>
        </p:nvGrpSpPr>
        <p:grpSpPr>
          <a:xfrm>
            <a:off x="539640" y="2995560"/>
            <a:ext cx="8604000" cy="520560"/>
            <a:chOff x="539640" y="2995560"/>
            <a:chExt cx="8604000" cy="520560"/>
          </a:xfrm>
        </p:grpSpPr>
        <p:sp>
          <p:nvSpPr>
            <p:cNvPr id="464" name="Text Box 5"/>
            <p:cNvSpPr/>
            <p:nvPr/>
          </p:nvSpPr>
          <p:spPr>
            <a:xfrm>
              <a:off x="539640" y="2995560"/>
              <a:ext cx="8604000" cy="52056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NZ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etal 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       +       </a:t>
              </a:r>
              <a:r>
                <a:rPr b="1" lang="en-NZ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oxygen  </a:t>
              </a:r>
              <a:r>
                <a:rPr b="1" lang="en-NZ" sz="28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5219280" y="3283200"/>
              <a:ext cx="936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Rectangle 28"/>
          <p:cNvSpPr/>
          <p:nvPr/>
        </p:nvSpPr>
        <p:spPr>
          <a:xfrm>
            <a:off x="6506640" y="301140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metal 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468360" y="4292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1763640" y="429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+    oxygen                    aluminium 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7"/>
          <p:cNvSpPr/>
          <p:nvPr/>
        </p:nvSpPr>
        <p:spPr>
          <a:xfrm>
            <a:off x="4572000" y="4581360"/>
            <a:ext cx="1008000" cy="18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395280" y="2060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etals and oxygen – gener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5"/>
          <p:cNvSpPr/>
          <p:nvPr/>
        </p:nvSpPr>
        <p:spPr>
          <a:xfrm>
            <a:off x="539640" y="3716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"/>
          <p:cNvGrpSpPr/>
          <p:nvPr/>
        </p:nvGrpSpPr>
        <p:grpSpPr>
          <a:xfrm>
            <a:off x="250920" y="1484280"/>
            <a:ext cx="8604000" cy="459720"/>
            <a:chOff x="250920" y="1484280"/>
            <a:chExt cx="8604000" cy="459720"/>
          </a:xfrm>
        </p:grpSpPr>
        <p:sp>
          <p:nvSpPr>
            <p:cNvPr id="473" name="Text Box 5"/>
            <p:cNvSpPr/>
            <p:nvPr/>
          </p:nvSpPr>
          <p:spPr>
            <a:xfrm>
              <a:off x="250920" y="1484280"/>
              <a:ext cx="8604000" cy="4597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NZ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metal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       +       </a:t>
              </a:r>
              <a:r>
                <a:rPr b="1" lang="en-NZ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xygen  </a:t>
              </a: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                      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4930560" y="1771560"/>
              <a:ext cx="936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Text Box 9"/>
          <p:cNvSpPr/>
          <p:nvPr/>
        </p:nvSpPr>
        <p:spPr>
          <a:xfrm>
            <a:off x="357120" y="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general reaction below to write both </a:t>
            </a:r>
            <a:r>
              <a:rPr b="1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word equations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then </a:t>
            </a:r>
            <a:r>
              <a:rPr b="0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symbol equations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each of the metals reacting with oxyg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274680" y="35002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285840" y="20718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0" y="5072040"/>
            <a:ext cx="18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8"/>
          <p:cNvSpPr/>
          <p:nvPr/>
        </p:nvSpPr>
        <p:spPr>
          <a:xfrm>
            <a:off x="2014560" y="2060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sod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19"/>
          <p:cNvSpPr/>
          <p:nvPr/>
        </p:nvSpPr>
        <p:spPr>
          <a:xfrm>
            <a:off x="3924360" y="2276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16430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calc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30"/>
          <p:cNvSpPr/>
          <p:nvPr/>
        </p:nvSpPr>
        <p:spPr>
          <a:xfrm>
            <a:off x="1785960" y="50720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magnes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3801960" y="3716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36"/>
          <p:cNvSpPr/>
          <p:nvPr/>
        </p:nvSpPr>
        <p:spPr>
          <a:xfrm>
            <a:off x="3838680" y="52880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6224760" y="1500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metal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>
            <a:off x="4214880" y="28576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00040" y="264312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4Na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Na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7"/>
          <p:cNvSpPr/>
          <p:nvPr/>
        </p:nvSpPr>
        <p:spPr>
          <a:xfrm>
            <a:off x="4286160" y="43578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571680" y="4143240"/>
            <a:ext cx="79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Ca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Ca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7"/>
          <p:cNvSpPr/>
          <p:nvPr/>
        </p:nvSpPr>
        <p:spPr>
          <a:xfrm>
            <a:off x="4071960" y="60008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357120" y="578628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Mg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Mg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3"/>
          <p:cNvSpPr/>
          <p:nvPr/>
        </p:nvSpPr>
        <p:spPr>
          <a:xfrm>
            <a:off x="203040" y="22860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276120" y="5643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5440" y="387180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47760" y="7858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1571760" y="2286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zinc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1428840" y="38577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iron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1500120" y="5643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 copper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1857240" y="7858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    oxygen                                      aluminium 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4091040" y="10018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38"/>
          <p:cNvSpPr/>
          <p:nvPr/>
        </p:nvSpPr>
        <p:spPr>
          <a:xfrm>
            <a:off x="3803760" y="2502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39"/>
          <p:cNvSpPr/>
          <p:nvPr/>
        </p:nvSpPr>
        <p:spPr>
          <a:xfrm>
            <a:off x="3781440" y="40165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40"/>
          <p:cNvSpPr/>
          <p:nvPr/>
        </p:nvSpPr>
        <p:spPr>
          <a:xfrm>
            <a:off x="3732120" y="585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4214880" y="15717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9"/>
          <p:cNvSpPr/>
          <p:nvPr/>
        </p:nvSpPr>
        <p:spPr>
          <a:xfrm>
            <a:off x="500040" y="135720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4Al +     3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2Al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7"/>
          <p:cNvSpPr/>
          <p:nvPr/>
        </p:nvSpPr>
        <p:spPr>
          <a:xfrm>
            <a:off x="4357800" y="31431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642960" y="292896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Zn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Zn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143240" y="478620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428760" y="4572000"/>
            <a:ext cx="79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4Fe +    3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Fe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00040" y="6072120"/>
            <a:ext cx="792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Cu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2CuO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Experiment: metals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28400" y="1509480"/>
            <a:ext cx="822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"/>
              </a:rPr>
              <a:t>Aim: to observe the reactions of metals with water and sort out which react faster than others page 129 yellow lab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95280" y="3143160"/>
            <a:ext cx="87487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The general reaction for a metal reacting with water 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etal + water                 metal hydroxide  + 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5"/>
          <p:cNvSpPr/>
          <p:nvPr/>
        </p:nvSpPr>
        <p:spPr>
          <a:xfrm>
            <a:off x="2928960" y="4738680"/>
            <a:ext cx="1079640" cy="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>
            <a:off x="4214880" y="5572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00040" y="5357880"/>
            <a:ext cx="835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eg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Na  +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                            NaOH 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reaction mixture starter complete the follow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395280" y="314316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7"/>
          <p:cNvSpPr/>
          <p:nvPr/>
        </p:nvSpPr>
        <p:spPr>
          <a:xfrm>
            <a:off x="4143240" y="2143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571680" y="1928880"/>
            <a:ext cx="47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Li  + 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571680" y="2714760"/>
            <a:ext cx="478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Ca   +   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428760" y="5000760"/>
            <a:ext cx="564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Mg   + 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(steam)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571680" y="6143760"/>
            <a:ext cx="535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Al   + 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 (steam)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4429080" y="2928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5000760" y="52862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5143680" y="63579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42960" y="3500280"/>
            <a:ext cx="4643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Cu   + 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7"/>
          <p:cNvSpPr/>
          <p:nvPr/>
        </p:nvSpPr>
        <p:spPr>
          <a:xfrm>
            <a:off x="4500720" y="37148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500040" y="4214880"/>
            <a:ext cx="835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Fe   +    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                                 (rust forms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3786120" y="4429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21"/>
          <p:cNvSpPr/>
          <p:nvPr/>
        </p:nvSpPr>
        <p:spPr>
          <a:xfrm>
            <a:off x="5913360" y="1928880"/>
            <a:ext cx="211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LiOH 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22"/>
          <p:cNvSpPr/>
          <p:nvPr/>
        </p:nvSpPr>
        <p:spPr>
          <a:xfrm>
            <a:off x="5429160" y="2714760"/>
            <a:ext cx="333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Ca(OH)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3"/>
          <p:cNvSpPr/>
          <p:nvPr/>
        </p:nvSpPr>
        <p:spPr>
          <a:xfrm>
            <a:off x="5691960" y="35002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5137560" y="4214880"/>
            <a:ext cx="112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2Fe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5752440" y="5072040"/>
            <a:ext cx="18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MgO  +  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5913000" y="6143760"/>
            <a:ext cx="204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Al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 +   3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2784960" y="2714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8"/>
          <p:cNvSpPr/>
          <p:nvPr/>
        </p:nvSpPr>
        <p:spPr>
          <a:xfrm>
            <a:off x="1356120" y="350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142776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2642040" y="4214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1"/>
          <p:cNvSpPr/>
          <p:nvPr/>
        </p:nvSpPr>
        <p:spPr>
          <a:xfrm>
            <a:off x="2571840" y="500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1498320" y="614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3"/>
          <p:cNvSpPr/>
          <p:nvPr/>
        </p:nvSpPr>
        <p:spPr>
          <a:xfrm>
            <a:off x="2641320" y="614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4"/>
          <p:cNvSpPr/>
          <p:nvPr/>
        </p:nvSpPr>
        <p:spPr>
          <a:xfrm>
            <a:off x="1356120" y="1928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5"/>
          <p:cNvSpPr/>
          <p:nvPr/>
        </p:nvSpPr>
        <p:spPr>
          <a:xfrm>
            <a:off x="2427840" y="1928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Experiment: metals and ac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22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"/>
              </a:rPr>
              <a:t>Aim: to observe the reactions of metals with acid and sort out which react faster than others (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that is - which ones are more reactive</a:t>
            </a:r>
            <a:r>
              <a:rPr b="0" lang="en-NZ" sz="32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4200" y="3714840"/>
            <a:ext cx="8748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The general reaction for a metal reacting with an acid 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etal + acid                 metal salt  + 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2571840" y="5286240"/>
            <a:ext cx="1079280" cy="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cc"/>
                </a:solidFill>
                <a:uFillTx/>
                <a:latin typeface="Arial"/>
              </a:rPr>
              <a:t>Summ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ost metals will react with dilute acids to give off hydrogen gas and form a sa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general formula for a metal acid reaction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5"/>
          <p:cNvSpPr/>
          <p:nvPr/>
        </p:nvSpPr>
        <p:spPr>
          <a:xfrm>
            <a:off x="3929040" y="335772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7"/>
          <p:cNvSpPr/>
          <p:nvPr/>
        </p:nvSpPr>
        <p:spPr>
          <a:xfrm>
            <a:off x="950760" y="716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151200" y="314316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agnesium 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1928880" y="314316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chloric ac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19"/>
          <p:cNvSpPr/>
          <p:nvPr/>
        </p:nvSpPr>
        <p:spPr>
          <a:xfrm>
            <a:off x="4643280" y="3143160"/>
            <a:ext cx="188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Magnesium  + chlor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724440" y="31431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4071960" y="464328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2"/>
          <p:cNvSpPr/>
          <p:nvPr/>
        </p:nvSpPr>
        <p:spPr>
          <a:xfrm>
            <a:off x="291600" y="44290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Iron       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2071800" y="4429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chloric ac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4786200" y="44290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Iron Chloride 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6867360" y="442908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4143240" y="5857920"/>
            <a:ext cx="6480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362880" y="56437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Zinc      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8"/>
          <p:cNvSpPr/>
          <p:nvPr/>
        </p:nvSpPr>
        <p:spPr>
          <a:xfrm>
            <a:off x="2143080" y="564372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chloric ac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29"/>
          <p:cNvSpPr/>
          <p:nvPr/>
        </p:nvSpPr>
        <p:spPr>
          <a:xfrm>
            <a:off x="4857840" y="5643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Zinc Chloride 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6938640" y="5643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5"/>
          <p:cNvSpPr/>
          <p:nvPr/>
        </p:nvSpPr>
        <p:spPr>
          <a:xfrm>
            <a:off x="3214800" y="2214720"/>
            <a:ext cx="647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-2520" y="20001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Metal    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1785960" y="2000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34"/>
          <p:cNvSpPr/>
          <p:nvPr/>
        </p:nvSpPr>
        <p:spPr>
          <a:xfrm>
            <a:off x="4214880" y="2071800"/>
            <a:ext cx="21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Metal salt  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6573960" y="20718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66ff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6"/>
          <p:cNvSpPr/>
          <p:nvPr/>
        </p:nvSpPr>
        <p:spPr>
          <a:xfrm>
            <a:off x="142920" y="2571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Write word and  symbol equations for these acid metal reac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4"/>
          <p:cNvSpPr/>
          <p:nvPr/>
        </p:nvSpPr>
        <p:spPr>
          <a:xfrm>
            <a:off x="4211640" y="16286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751320" y="26676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 the following WORD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133992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7"/>
          <p:cNvSpPr/>
          <p:nvPr/>
        </p:nvSpPr>
        <p:spPr>
          <a:xfrm>
            <a:off x="3780000" y="28526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39640" y="2133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example of an acid/met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611280" y="263700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Mg +  2HCl                Mg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932360" y="126828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salt +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714240" y="3571920"/>
            <a:ext cx="7961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a balanced equation for an sulfuric acid and Iron met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n complete exercises writing balanced symbol equations on page 1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3851280" y="5013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39640" y="4797360"/>
            <a:ext cx="70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Fe +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S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4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           FeS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4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0"/>
            <a:ext cx="91440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ask : Find the formula for aluminium 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ions from your table  ie  Al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and   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1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in other words are there the same number of (+) as (-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 = +3  and    O = -2  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no they don’t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71628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dd ions to both sides until the charges bal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826920" y="47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195640" y="47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826920" y="5084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2195640" y="50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195640" y="537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2411280" y="5805360"/>
            <a:ext cx="0" cy="36036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1042920" y="5516640"/>
            <a:ext cx="0" cy="6490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H="1">
            <a:off x="1042560" y="6165720"/>
            <a:ext cx="2808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3564000" y="6165720"/>
            <a:ext cx="934920" cy="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H="1">
            <a:off x="2410920" y="5805360"/>
            <a:ext cx="1800" cy="36036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1042920" y="5805360"/>
            <a:ext cx="0" cy="21600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4643280" y="5877000"/>
            <a:ext cx="45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Aluminium oxide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142920" y="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Write out the foll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From the folowing metal list answer the questions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Li , Cu, Zn, Al, Mg , Fe, P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0" y="171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1. List the metals in order from most reactive to least reacti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395280" y="3521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2. ____ is a metal that reacts with cold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428760" y="41432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3. _______ is the metal that does not react with  sulfur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428760" y="52149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4. ______ is the most reactive metal on the l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468360" y="294480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2357280" y="26431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Li, Mg, Al, Zn, Fe, Pb, 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826920" y="3500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Li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00008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1004760" y="51246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57120" y="60721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5. ______ is the metal that ru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933480" y="59817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ffff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Box 13"/>
          <p:cNvSpPr/>
          <p:nvPr/>
        </p:nvSpPr>
        <p:spPr>
          <a:xfrm>
            <a:off x="214200" y="2643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Most  re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14"/>
          <p:cNvSpPr/>
          <p:nvPr/>
        </p:nvSpPr>
        <p:spPr>
          <a:xfrm>
            <a:off x="6215040" y="2643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least re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0" y="323424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 oxides  + 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7"/>
          <p:cNvSpPr/>
          <p:nvPr/>
        </p:nvSpPr>
        <p:spPr>
          <a:xfrm>
            <a:off x="3714840" y="35193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255600" y="3778200"/>
            <a:ext cx="799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CaO reacting with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0"/>
          <p:cNvSpPr/>
          <p:nvPr/>
        </p:nvSpPr>
        <p:spPr>
          <a:xfrm>
            <a:off x="3286080" y="45799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4356000" y="3213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etal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0" y="436572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O  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               Ca(OH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0" y="836640"/>
            <a:ext cx="9144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sodium reacting with oxygen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611280" y="14130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4Na      +  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      2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3459240" y="16351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9"/>
          <p:cNvSpPr/>
          <p:nvPr/>
        </p:nvSpPr>
        <p:spPr>
          <a:xfrm>
            <a:off x="255600" y="2049480"/>
            <a:ext cx="799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reacting with 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3286080" y="28512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0" y="26370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2Li      +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i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5"/>
          <p:cNvSpPr/>
          <p:nvPr/>
        </p:nvSpPr>
        <p:spPr>
          <a:xfrm>
            <a:off x="1000080" y="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Starter Summary Re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179280" y="5013360"/>
            <a:ext cx="8964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me metal oxides do not  d _____ in water and _____  ___ produce alkaline sol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scribe the relative concentration of H+ ions at different points of the pH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8"/>
          <p:cNvSpPr/>
          <p:nvPr/>
        </p:nvSpPr>
        <p:spPr>
          <a:xfrm>
            <a:off x="3927240" y="50133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s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0"/>
          <p:cNvSpPr/>
          <p:nvPr/>
        </p:nvSpPr>
        <p:spPr>
          <a:xfrm>
            <a:off x="6948360" y="4941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ill  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5"/>
          <p:cNvSpPr/>
          <p:nvPr/>
        </p:nvSpPr>
        <p:spPr>
          <a:xfrm>
            <a:off x="0" y="78624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  +  CARBONAT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7"/>
          <p:cNvSpPr/>
          <p:nvPr/>
        </p:nvSpPr>
        <p:spPr>
          <a:xfrm>
            <a:off x="3714840" y="107172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755640" y="1341360"/>
            <a:ext cx="7993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Cl reacting with Ca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3786120" y="2143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4429080" y="7858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alt + carbon dioxide +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500040" y="192888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+   2HCl                Ca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+ 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0" y="292896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Cl reacting with 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(sodium bicarbonat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395280" y="38736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+   HCl             NaCl   + 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0"/>
          <p:cNvSpPr/>
          <p:nvPr/>
        </p:nvSpPr>
        <p:spPr>
          <a:xfrm>
            <a:off x="3753000" y="40878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579600" y="4857840"/>
            <a:ext cx="79930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Give a balanced reaction for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reacting with Zn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>
            <a:off x="3610080" y="565956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324000" y="5445000"/>
            <a:ext cx="806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Zn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+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         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Zn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 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+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5"/>
          <p:cNvSpPr/>
          <p:nvPr/>
        </p:nvSpPr>
        <p:spPr>
          <a:xfrm>
            <a:off x="1000080" y="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Acid Carbonate Re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0" y="6165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mplete the experiment on page 136  then ques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Homework for test on Fri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eck out the 1.4 Achievement standard page 103 -104 (yellow lab boo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ook at Specific learning out comes page 104 -105 make sure you use to make headings for study notes and practise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chapter 15 Basic Chemistry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(NCEA level 1 Science text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complete al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Chapter 16 acids and bases and complete al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Chapter 17 metals and complete al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llo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member alloys are mixtures of metals and other sub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mportant alloy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teel made of carbon and iron – used in many industries including car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Brass made of copper and zinc – used in plumbing fi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lder made of tin and lead – used in making circu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loys are made to change the physical property of the metal eg solder melts lower than lead or 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0" y="1916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ad page 63 in MW to find why metals conduct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0" y="2349360"/>
          <a:ext cx="676764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67676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 Box 4"/>
          <p:cNvSpPr/>
          <p:nvPr/>
        </p:nvSpPr>
        <p:spPr>
          <a:xfrm>
            <a:off x="395280" y="486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sea of negative electrons in metals allows electrical current to flow through the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324000" y="57340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se electrons also account for the shiny appearance of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do metals conduct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7" name="Object 2"/>
          <p:cNvGraphicFramePr/>
          <p:nvPr/>
        </p:nvGraphicFramePr>
        <p:xfrm>
          <a:off x="1692360" y="1773360"/>
          <a:ext cx="54673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54673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Rectangle 3"/>
          <p:cNvSpPr/>
          <p:nvPr/>
        </p:nvSpPr>
        <p:spPr>
          <a:xfrm>
            <a:off x="254160" y="4107960"/>
            <a:ext cx="89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metallic bonds do not act in a particular direction,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s of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ositive ions can slide over one another easi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llows the metal to be bent or shaped. This structure all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to be bent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lle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r made into wires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uct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900000" y="260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Why most metals can be bent or shap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Neutralis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8675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Cl   +    NaOH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  + 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2916360" y="1557360"/>
            <a:ext cx="64764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5"/>
          <p:cNvSpPr/>
          <p:nvPr/>
        </p:nvSpPr>
        <p:spPr>
          <a:xfrm>
            <a:off x="0" y="-27360"/>
            <a:ext cx="91440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fre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ong bases eg _____ have a pH of ___ and will turn universal indicator _____ common lab bases are potassium hydroxide (KOH), sodium hydroxide (NaOH) and ammonium hydroxide (N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Comic Sans MS"/>
                <a:ea typeface="Times New Roman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mon household bas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Box 2"/>
          <p:cNvSpPr/>
          <p:nvPr/>
        </p:nvSpPr>
        <p:spPr>
          <a:xfrm>
            <a:off x="3214800" y="335772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ff"/>
                </a:solidFill>
                <a:latin typeface="Arial"/>
              </a:rPr>
              <a:t>Window clea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3214800" y="378612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ff"/>
                </a:solidFill>
                <a:latin typeface="Arial"/>
              </a:rPr>
              <a:t>Oven clea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286080" y="421488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ccff"/>
                </a:solidFill>
                <a:latin typeface="Arial"/>
              </a:rPr>
              <a:t>Ji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3214800" y="785880"/>
            <a:ext cx="96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K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6858000" y="85716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4429080" y="128592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5"/>
          <p:cNvSpPr/>
          <p:nvPr/>
        </p:nvSpPr>
        <p:spPr>
          <a:xfrm>
            <a:off x="611280" y="35064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iversal indicator goes ____ with a strong acid and the pH will be around 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utral solutions (eg pure water) go _____ with universal indicator and a pH of around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ong bases  go _______ with universal indicator and have a pH of around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0" y="0"/>
            <a:ext cx="914400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You try this one write out each step : Find the formula for magnesium ni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ions from your 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ie  Mg</a:t>
            </a:r>
            <a:r>
              <a:rPr b="0" lang="en-NZ" sz="2400" spc="-1" strike="noStrike" baseline="30000">
                <a:solidFill>
                  <a:srgbClr val="00ff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    and   NO</a:t>
            </a:r>
            <a:r>
              <a:rPr b="0" lang="en-NZ" sz="24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00ff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2643120"/>
            <a:ext cx="9144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in other words are there the same number of (+) as (-)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 =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+2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d    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ff00"/>
                </a:solidFill>
                <a:latin typeface="Arial"/>
              </a:rPr>
              <a:t>no they don’t 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14200" y="428616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dd ions to both sides until the charges bal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26920" y="525456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214720" y="5743440"/>
            <a:ext cx="109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11280" y="6262560"/>
            <a:ext cx="0" cy="36036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042920" y="5973840"/>
            <a:ext cx="0" cy="6490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1042560" y="6622920"/>
            <a:ext cx="2808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3564000" y="6622920"/>
            <a:ext cx="934920" cy="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2410920" y="6262560"/>
            <a:ext cx="1800" cy="36036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1042920" y="6262560"/>
            <a:ext cx="0" cy="21600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643280" y="6334200"/>
            <a:ext cx="178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Mg(NO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214720" y="5243400"/>
            <a:ext cx="109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4572000" y="538632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Then writ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0" y="2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fre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rong acids eg _____ have a pH of ___ and will turn universal indicator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eak acids eg Lemon   ___ have a pH of ___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d will turn universal indicator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xamples of common household acid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3214800" y="78588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H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6643800" y="85716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6143760" y="1285920"/>
            <a:ext cx="9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99"/>
                </a:solidFill>
                <a:latin typeface="Comic Sans MS"/>
                <a:ea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4429080" y="2143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ju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786800" y="21430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4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6715080" y="25718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3786120" y="428616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3714840" y="46432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tarta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3929040" y="50720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  <a:ea typeface="Times New Roman"/>
              </a:rPr>
              <a:t>ci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35"/>
          <p:cNvSpPr/>
          <p:nvPr/>
        </p:nvSpPr>
        <p:spPr>
          <a:xfrm>
            <a:off x="0" y="0"/>
            <a:ext cx="91440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86d1ec"/>
                </a:solidFill>
                <a:latin typeface="Tahoma"/>
              </a:rPr>
              <a:t>Experiment finding the pH of substances -</a:t>
            </a: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raw the table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Place 2 cms of water in each tube (then two drops of the test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ff33"/>
                </a:solidFill>
                <a:latin typeface="Tahoma"/>
              </a:rPr>
              <a:t>3 drop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of universal indicator in them –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write then fill in your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0" y="2960640"/>
          <a:ext cx="9144000" cy="3897360"/>
        </p:xfrm>
        <a:graphic>
          <a:graphicData uri="http://schemas.openxmlformats.org/drawingml/2006/table">
            <a:tbl>
              <a:tblPr/>
              <a:tblGrid>
                <a:gridCol w="2946240"/>
                <a:gridCol w="2803680"/>
                <a:gridCol w="3394080"/>
              </a:tblGrid>
              <a:tr h="426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NZ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Colour of 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5" name="Text Box 101"/>
          <p:cNvSpPr/>
          <p:nvPr/>
        </p:nvSpPr>
        <p:spPr>
          <a:xfrm>
            <a:off x="2987640" y="2924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ff33"/>
                </a:solidFill>
                <a:latin typeface="Arial"/>
              </a:rPr>
              <a:t>pH of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35"/>
          <p:cNvSpPr/>
          <p:nvPr/>
        </p:nvSpPr>
        <p:spPr>
          <a:xfrm>
            <a:off x="0" y="0"/>
            <a:ext cx="9144000" cy="68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86d1ec"/>
                </a:solidFill>
                <a:latin typeface="Tahoma"/>
              </a:rPr>
              <a:t>Experiment finding the pH of substances -</a:t>
            </a: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raw the table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Place 2 cms of each of the solutions below in a test tube then pl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3 drops of universal indicator in them –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write the colour in the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aking soda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l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i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emon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ft soap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Jif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2482920" y="33051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38"/>
          <p:cNvSpPr/>
          <p:nvPr/>
        </p:nvSpPr>
        <p:spPr>
          <a:xfrm>
            <a:off x="2843280" y="35211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39"/>
          <p:cNvSpPr/>
          <p:nvPr/>
        </p:nvSpPr>
        <p:spPr>
          <a:xfrm>
            <a:off x="2627280" y="4097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40"/>
          <p:cNvSpPr/>
          <p:nvPr/>
        </p:nvSpPr>
        <p:spPr>
          <a:xfrm>
            <a:off x="3635280" y="46022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3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41"/>
          <p:cNvSpPr/>
          <p:nvPr/>
        </p:nvSpPr>
        <p:spPr>
          <a:xfrm>
            <a:off x="3635280" y="51786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2"/>
          <p:cNvSpPr/>
          <p:nvPr/>
        </p:nvSpPr>
        <p:spPr>
          <a:xfrm>
            <a:off x="3419640" y="57546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0 -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3"/>
          <p:cNvSpPr/>
          <p:nvPr/>
        </p:nvSpPr>
        <p:spPr>
          <a:xfrm>
            <a:off x="3348000" y="623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5"/>
          <p:cNvSpPr/>
          <p:nvPr/>
        </p:nvSpPr>
        <p:spPr>
          <a:xfrm>
            <a:off x="6372360" y="34639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46"/>
          <p:cNvSpPr/>
          <p:nvPr/>
        </p:nvSpPr>
        <p:spPr>
          <a:xfrm>
            <a:off x="5867280" y="3968640"/>
            <a:ext cx="295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 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violet/pur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48"/>
          <p:cNvSpPr/>
          <p:nvPr/>
        </p:nvSpPr>
        <p:spPr>
          <a:xfrm>
            <a:off x="6586200" y="6237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50"/>
          <p:cNvSpPr/>
          <p:nvPr/>
        </p:nvSpPr>
        <p:spPr>
          <a:xfrm>
            <a:off x="6440040" y="510552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52"/>
          <p:cNvSpPr/>
          <p:nvPr/>
        </p:nvSpPr>
        <p:spPr>
          <a:xfrm>
            <a:off x="6443640" y="58244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54"/>
          <p:cNvSpPr/>
          <p:nvPr/>
        </p:nvSpPr>
        <p:spPr>
          <a:xfrm>
            <a:off x="6586200" y="45291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227400" y="2781360"/>
          <a:ext cx="5916600" cy="3897360"/>
        </p:xfrm>
        <a:graphic>
          <a:graphicData uri="http://schemas.openxmlformats.org/drawingml/2006/table">
            <a:tbl>
              <a:tblPr/>
              <a:tblGrid>
                <a:gridCol w="2676600"/>
                <a:gridCol w="3240000"/>
              </a:tblGrid>
              <a:tr h="426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NZ" sz="28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Colour of 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Text Box 101"/>
          <p:cNvSpPr/>
          <p:nvPr/>
        </p:nvSpPr>
        <p:spPr>
          <a:xfrm>
            <a:off x="3276720" y="2744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ff33"/>
                </a:solidFill>
                <a:latin typeface="Arial"/>
              </a:rPr>
              <a:t>pH of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285840" y="2602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Strong and Weak Acids- Experi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395280" y="1052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lace 2cms of each of the 3 acids in 3 test tubes in a test tube rack – copy this table into your book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- use a ruler to draw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714384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0" y="2708280"/>
          <a:ext cx="8856720" cy="2759040"/>
        </p:xfrm>
        <a:graphic>
          <a:graphicData uri="http://schemas.openxmlformats.org/drawingml/2006/table">
            <a:tbl>
              <a:tblPr/>
              <a:tblGrid>
                <a:gridCol w="2768760"/>
                <a:gridCol w="3279600"/>
                <a:gridCol w="28083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ur with Universal indic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ction with Mg m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u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chlo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900000" y="26028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Acid Reactions Experim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395280" y="1052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lace 2cms of each of the 3 acids in 3 test tubes in a test tube rack – copy this table into your book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- use a ruler to draw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28"/>
          <p:cNvSpPr/>
          <p:nvPr/>
        </p:nvSpPr>
        <p:spPr>
          <a:xfrm>
            <a:off x="7143840" y="539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0" y="2852640"/>
          <a:ext cx="8856720" cy="3465720"/>
        </p:xfrm>
        <a:graphic>
          <a:graphicData uri="http://schemas.openxmlformats.org/drawingml/2006/table">
            <a:tbl>
              <a:tblPr/>
              <a:tblGrid>
                <a:gridCol w="2768760"/>
                <a:gridCol w="608796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bservation with calcium carbonat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lfu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chlo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0" y="68760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sing the white boards answer the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By being the first group to neatly show the correct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ve the chemical symbol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ive the type and number of atoms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34800" y="27860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5896080" y="285768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r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867840" y="3429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3697920" y="2857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6051600" y="34290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e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2236320" y="3500280"/>
            <a:ext cx="8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2075760" y="2786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412200" y="35002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lf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671760" y="5013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976200" y="5084640"/>
            <a:ext cx="120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a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445680" y="587052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2388960" y="5084640"/>
            <a:ext cx="110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b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5628600" y="5084640"/>
            <a:ext cx="125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2252160" y="5870520"/>
            <a:ext cx="140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(S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16"/>
          <p:cNvSpPr/>
          <p:nvPr/>
        </p:nvSpPr>
        <p:spPr>
          <a:xfrm>
            <a:off x="4113360" y="5799240"/>
            <a:ext cx="300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C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CO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9"/>
          <p:cNvSpPr/>
          <p:nvPr/>
        </p:nvSpPr>
        <p:spPr>
          <a:xfrm>
            <a:off x="0" y="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What can you rememb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tarter Task : Write the chemical formula for Calcium hydroxide in your 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02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o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out the two ions from the chart with their charge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0" y="28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w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the two charges balance by adding 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79280" y="4581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tep thr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rite the finished formula without the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714240" y="785880"/>
            <a:ext cx="671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You can </a:t>
            </a: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quietly</a:t>
            </a: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read the following 6 slides or you can copy them d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20:45:45Z</dcterms:created>
  <dc:creator>Dave Macdonald</dc:creator>
  <dc:description/>
  <dc:language>en-US</dc:language>
  <cp:lastModifiedBy>David</cp:lastModifiedBy>
  <dcterms:modified xsi:type="dcterms:W3CDTF">2009-05-25T07:50:02Z</dcterms:modified>
  <cp:revision>137</cp:revision>
  <dc:subject/>
  <dc:title>Slide 1</dc:title>
</cp:coreProperties>
</file>